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046-0240-45F8-9D48-1E6139B3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60E-FE8C-4343-97E7-2884C76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CB5-250F-4546-B62E-34BC5D39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C4D-1FCE-4602-BC8A-E866BC0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F55-15B1-4B90-92A6-A2D7591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4EB-2CE9-453D-9365-2A62B83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0EE-54A2-4D5B-9784-29267FF8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A16-6CA1-4B98-81E8-4AC52E2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221-A6FE-48BB-9570-97266D32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58C-31E2-4254-95EB-A5F1E2F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D23-76A3-4457-BEB2-1293400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554-C53B-4C1E-BF63-7DBF541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567F-4E2A-4027-BF99-486996B72EA2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932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nainte de aparitia omulu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6165360"/>
            <a:ext cx="5435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atura era mult mai limp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16360" cy="340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309600">
            <a:off x="6659640" y="620640"/>
            <a:ext cx="1322280" cy="360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369600">
            <a:off x="0" y="220500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924360" y="5013360"/>
            <a:ext cx="122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15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15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15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1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8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00"/>
                            </p:stCondLst>
                            <p:childTnLst>
                              <p:par>
                                <p:cTn id="6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-0.0592 C -0.06736 -0.10775 -0.06875 -0.10567 -0.0625 -0.13943 C -0.06181 -0.14289 -0.0592 -0.14498 -0.05764 -0.14798 C -0.04983 -0.16232 -0.04948 -0.16278 -0.04028 -0.17318 C -0.03854 -0.17526 -0.0375 -0.1785 -0.03542 -0.17966 C -0.03142 -0.18197 -0.02274 -0.18382 -0.02274 -0.18359 C -0.00972 -0.18266 0.00295 -0.18313 0.01528 -0.17758 C 0.02049 -0.17295 0.02535 -0.16948 0.03125 -0.16694 C 0.03576 -0.16278 0.03924 -0.15815 0.04392 -0.15422 C 0.04687 -0.14844 0.04965 -0.14428 0.05347 -0.13943 C 0.0566 -0.13087 0.06024 -0.12555 0.06458 -0.11839 C 0.06806 -0.11261 0.06858 -0.10659 0.0724 -0.10128 C 0.07569 -0.08162 0.08212 -0.04787 0.0724 -0.03168 C 0.0691 -0.02636 0.05521 -0.01133 0.05017 -0.00833 C 0.04722 -0.00648 0.0408 -0.00417 0.0408 -0.00394 C 0.02812 0.01179 -0.01701 0.00023 -0.02431 4.56647E-006 C -0.02795 -0.00162 -0.03194 -0.00209 -0.03542 -0.00417 C -0.05712 -0.01688 -0.03351 -0.00486 -0.04809 -0.0148 C -0.05347 -0.0185 -0.05972 -0.02128 -0.06563 -0.02313 C -0.06979 -0.02659 -0.07413 -0.03029 -0.0783 -0.03376 C -0.07986 -0.03515 -0.08316 -0.03792 -0.08316 -0.03769 C -0.08698 -0.04856 -0.09236 -0.05249 -0.09896 -0.06128 C -0.10052 -0.06336 -0.10208 -0.06544 -0.10365 -0.06752 C -0.10469 -0.06891 -0.10694 -0.07168 -0.10694 -0.07145 C -0.10903 -0.08 -0.11337 -0.08324 -0.11649 -0.09087 C -0.11823 -0.09503 -0.1191 -0.09989 -0.12118 -0.10359 C -0.12222 -0.10567 -0.12448 -0.1059 -0.12587 -0.10775 C -0.12986 -0.11307 -0.13299 -0.11931 -0.13698 -0.12463 C -0.1401 -0.14012 -0.14948 -0.14752 -0.15764 -0.15839 C -0.15903 -0.16024 -0.15938 -0.16324 -0.16094 -0.16486 C -0.16858 -0.17341 -0.18906 -0.19492 -0.20052 -0.19862 C -0.20608 -0.20578 -0.20885 -0.20879 -0.21649 -0.21133 C -0.23194 -0.22151 -0.24167 -0.21688 -0.26094 -0.2155 C -0.27813 -0.20972 -0.28698 -0.20486 -0.30538 -0.20278 C -0.31319 -0.19931 -0.32118 -0.19769 -0.32917 -0.19446 C -0.33542 -0.19191 -0.34809 -0.18798 -0.34809 -0.18775 C -0.35625 -0.18105 -0.36563 -0.18128 -0.37517 -0.17966 C -0.38698 -0.17434 -0.39913 -0.17665 -0.41007 -0.18382 C -0.41771 -0.19399 -0.42691 -0.20209 -0.43698 -0.20717 C -0.44097 -0.21226 -0.44184 -0.21411 -0.44653 -0.21758 C -0.45069 -0.22058 -0.45573 -0.22174 -0.4592 -0.22613 C -0.4651 -0.23353 -0.47153 -0.23769 -0.4783 -0.24301 C -0.48715 -0.25018 -0.49358 -0.25873 -0.50365 -0.26197 C -0.50521 -0.26405 -0.50625 -0.26775 -0.50851 -0.26844 C -0.51944 -0.27145 -0.53646 -0.25665 -0.54653 -0.25157 C -0.55017 -0.24972 -0.55399 -0.24856 -0.55764 -0.24717 C -0.55972 -0.24648 -0.56406 -0.24509 -0.56406 -0.24486 E">
                                      <p:cBhvr>
                                        <p:cTn id="10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timpul, natura a evolu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5949720"/>
            <a:ext cx="8289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nind din ce in ce mai bogata si mai frumo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5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65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295 E">
                                      <p:cBhvr>
                                        <p:cTn id="14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65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19931 E">
                                      <p:cBhvr>
                                        <p:cTn id="14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129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ar omul a intervenit, schimband-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32000" y="6176880"/>
            <a:ext cx="6012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atura fiind din ce in ce mai polu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608360" cy="432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203688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1.84971E-006 L -0.11024 -0.2726 E">
                                      <p:cBhvr>
                                        <p:cTn id="2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0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acum, oamenii si natura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6021360"/>
            <a:ext cx="41972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inteleg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05080" cy="366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4076640"/>
            <a:ext cx="1285920" cy="129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140360" y="1557360"/>
            <a:ext cx="95220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435640" y="2997360"/>
            <a:ext cx="3240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32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0.01295 L 0.36129 0.02336 E">
                                      <p:cBhvr>
                                        <p:cTn id="35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9.76879E-006 L -0.62205 -0.07329 E">
                                      <p:cBhvr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8555E-006 L 0.97656 -0.03145 E">
                                      <p:cBhvr>
                                        <p:cTn id="3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06936E-006 C 0.00677 -0.00924 0.0092 -0.02196 0.0158 -0.03167 C 0.01875 -0.03606 0.02534 -0.04439 0.02534 -0.04439 C 0.0283 -0.05687 0.02465 -0.04508 0.03177 -0.0571 C 0.05191 -0.09109 0.03698 -0.07074 0.05086 -0.08878 C 0.05642 -0.11144 0.04774 -0.11421 0.03975 -0.12901 C 0.03836 -0.13155 0.03732 -0.13456 0.03646 -0.13733 C 0.03576 -0.13942 0.03576 -0.14196 0.03489 -0.14381 C 0.03159 -0.15051 0.02708 -0.15606 0.02378 -0.16277 C 0.02187 -0.16647 0.01788 -0.16785 0.0158 -0.17132 C 0.00781 -0.1845 -0.00104 -0.20138 -0.01268 -0.20924 C -0.02066 -0.22566 -0.01042 -0.20647 -0.02066 -0.21988 C -0.02205 -0.22173 -0.0224 -0.2245 -0.02379 -0.22612 C -0.02813 -0.23121 -0.03403 -0.23352 -0.03802 -0.23884 C -0.0467 -0.2504 -0.0566 -0.25757 -0.06667 -0.26635 C -0.07257 -0.27144 -0.07743 -0.27421 -0.0842 -0.27699 C -0.08907 -0.27884 -0.09844 -0.28323 -0.09844 -0.28323 C -0.10486 -0.29225 -0.09914 -0.286 -0.11424 -0.2897 C -0.12604 -0.29271 -0.13698 -0.29595 -0.14914 -0.29803 C -0.1915 -0.29687 -0.21771 -0.29965 -0.254 -0.29179 C -0.25868 -0.2897 -0.26927 -0.28138 -0.27309 -0.27699 C -0.27483 -0.27514 -0.27778 -0.27352 -0.27778 -0.27051 C -0.27778 -0.2682 -0.27309 -0.27514 -0.27309 -0.27283 C -0.27309 -0.27028 -0.27969 -0.26843 -0.27778 -0.26843 C -0.27483 -0.26843 -0.2717 -0.27005 -0.26979 -0.27283 C -0.26875 -0.27444 -0.27309 -0.27283 -0.27466 -0.27283 E">
                                      <p:cBhvr>
                                        <p:cTn id="3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9:34Z</dcterms:created>
  <dc:creator>x</dc:creator>
  <dc:description/>
  <dc:language>en-US</dc:language>
  <cp:lastModifiedBy>lau</cp:lastModifiedBy>
  <dcterms:modified xsi:type="dcterms:W3CDTF">2008-05-04T18:18:23Z</dcterms:modified>
  <cp:revision>4</cp:revision>
  <dc:subject/>
  <dc:title>Inainte de aparitia omului…</dc:title>
</cp:coreProperties>
</file>